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040" y="1143000"/>
            <a:ext cx="7543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14040" y="3769920"/>
            <a:ext cx="7543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040" y="1143000"/>
            <a:ext cx="3681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79720" y="1143000"/>
            <a:ext cx="3681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14040" y="3769920"/>
            <a:ext cx="3681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779720" y="3769920"/>
            <a:ext cx="3681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040" y="1143000"/>
            <a:ext cx="2428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64640" y="1143000"/>
            <a:ext cx="2428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15600" y="1143000"/>
            <a:ext cx="2428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14040" y="3769920"/>
            <a:ext cx="2428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64640" y="3769920"/>
            <a:ext cx="2428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15600" y="3769920"/>
            <a:ext cx="2428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14040" y="114300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14040" y="114300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4040" y="1143000"/>
            <a:ext cx="36813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779720" y="1143000"/>
            <a:ext cx="36813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cc33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14040" y="1143000"/>
            <a:ext cx="3681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79720" y="1143000"/>
            <a:ext cx="36813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14040" y="3769920"/>
            <a:ext cx="3681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1143000"/>
            <a:ext cx="36813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79720" y="1143000"/>
            <a:ext cx="3681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779720" y="3769920"/>
            <a:ext cx="3681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040" y="1143000"/>
            <a:ext cx="3681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79720" y="1143000"/>
            <a:ext cx="3681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040" y="3769920"/>
            <a:ext cx="7543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未标题-1" descr=""/>
          <p:cNvPicPr/>
          <p:nvPr/>
        </p:nvPicPr>
        <p:blipFill>
          <a:blip r:embed="rId2"/>
          <a:stretch/>
        </p:blipFill>
        <p:spPr>
          <a:xfrm>
            <a:off x="762120" y="990720"/>
            <a:ext cx="7772400" cy="541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33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040" y="114300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8.xml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6.xml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cc33"/>
                </a:solidFill>
                <a:latin typeface="Arial"/>
                <a:ea typeface="黑体"/>
              </a:rPr>
              <a:t>第</a:t>
            </a:r>
            <a:r>
              <a:rPr b="1" lang="zh-CN" sz="3200" spc="-1" strike="noStrike">
                <a:solidFill>
                  <a:srgbClr val="33cc33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33cc33"/>
                </a:solidFill>
                <a:latin typeface="Arial"/>
                <a:ea typeface="黑体"/>
              </a:rPr>
              <a:t>章</a:t>
            </a:r>
            <a:r>
              <a:rPr b="1" lang="zh-CN" sz="3200" spc="-1" strike="noStrike">
                <a:solidFill>
                  <a:srgbClr val="33cc33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33cc33"/>
                </a:solidFill>
                <a:latin typeface="Arial"/>
                <a:ea typeface="黑体"/>
              </a:rPr>
              <a:t>汇编语言程序设计</a:t>
            </a:r>
            <a:r>
              <a:rPr b="1" lang="zh-CN" sz="3200" spc="-1" strike="noStrike">
                <a:solidFill>
                  <a:srgbClr val="33cc33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84120" y="1143000"/>
            <a:ext cx="7174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c00cc"/>
                </a:solidFill>
                <a:uFillTx/>
                <a:latin typeface="Times New Roman"/>
                <a:hlinkClick r:id="rId1" action="ppaction://hlinksldjump"/>
              </a:rPr>
              <a:t>4.1  汇编语言基本概念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c00cc"/>
                </a:solidFill>
                <a:uFillTx/>
                <a:latin typeface="Times New Roman"/>
                <a:hlinkClick r:id="rId2" action="ppaction://hlinksldjump"/>
              </a:rPr>
              <a:t>4.2  汇编语言程序设计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cc33"/>
                </a:solidFill>
                <a:latin typeface="Times New Roman"/>
              </a:rPr>
              <a:t>4.2.2  </a:t>
            </a:r>
            <a:r>
              <a:rPr b="1" lang="zh-CN" sz="3200" spc="-1" strike="noStrike">
                <a:solidFill>
                  <a:srgbClr val="33cc33"/>
                </a:solidFill>
                <a:latin typeface="Times New Roman"/>
              </a:rPr>
              <a:t>顺序程序</a:t>
            </a:r>
            <a:r>
              <a:rPr b="1" lang="zh-CN" sz="3200" spc="-1" strike="noStrike">
                <a:solidFill>
                  <a:srgbClr val="33cc33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040" y="114300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顺序程序是一种最简单，最基本的程序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特点：程序按编写的顺序依次往下执行每一条指令，直到最后一条。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【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.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】  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0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单元内的两位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C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码拆开并转换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SCII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码，存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RA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两个单元中。程序流程如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-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所示。参考程序如下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OR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000H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MOV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0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取值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N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#0F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取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位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040" y="114300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D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#30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转换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SCII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码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MOV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2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保存结果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MOV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0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取值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SWA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高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位与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位互换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N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#0F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取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位（原来的高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位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D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#30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；转换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SCII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码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MOV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1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；保存结果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SJM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$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END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"/>
          <p:cNvGrpSpPr/>
          <p:nvPr/>
        </p:nvGrpSpPr>
        <p:grpSpPr>
          <a:xfrm>
            <a:off x="1981080" y="609480"/>
            <a:ext cx="4114440" cy="5562720"/>
            <a:chOff x="1981080" y="609480"/>
            <a:chExt cx="4114440" cy="5562720"/>
          </a:xfrm>
        </p:grpSpPr>
        <p:sp>
          <p:nvSpPr>
            <p:cNvPr id="68" name=""/>
            <p:cNvSpPr/>
            <p:nvPr/>
          </p:nvSpPr>
          <p:spPr>
            <a:xfrm>
              <a:off x="3282120" y="5394240"/>
              <a:ext cx="1512720" cy="331560"/>
            </a:xfrm>
            <a:prstGeom prst="flowChartTerminator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结束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86480" y="1287360"/>
              <a:ext cx="2303280" cy="359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取数据低</a:t>
              </a: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位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747160" y="1969560"/>
              <a:ext cx="2584080" cy="358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转换成</a:t>
              </a: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ASCII</a:t>
              </a: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码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840760" y="2646360"/>
              <a:ext cx="2395080" cy="34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存</a:t>
              </a: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ASCII</a:t>
              </a: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码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61920" y="3363480"/>
              <a:ext cx="2554560" cy="359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取数据高</a:t>
              </a: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位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768760" y="4037760"/>
              <a:ext cx="2541240" cy="359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转换成</a:t>
              </a: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ASCII</a:t>
              </a: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码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824200" y="4726080"/>
              <a:ext cx="2430000" cy="345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存</a:t>
              </a: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ASCII</a:t>
              </a: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码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270600" y="609480"/>
              <a:ext cx="1535400" cy="374040"/>
            </a:xfrm>
            <a:prstGeom prst="flowChartTerminator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开始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038480" y="993600"/>
              <a:ext cx="0" cy="31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038480" y="1668240"/>
              <a:ext cx="0" cy="31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038480" y="2338920"/>
              <a:ext cx="0" cy="31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038480" y="3026880"/>
              <a:ext cx="0" cy="3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038480" y="3722760"/>
              <a:ext cx="0" cy="31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038480" y="4401000"/>
              <a:ext cx="0" cy="31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038480" y="5075280"/>
              <a:ext cx="0" cy="3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981080" y="5812920"/>
              <a:ext cx="4114440" cy="35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" name=""/>
          <p:cNvSpPr/>
          <p:nvPr/>
        </p:nvSpPr>
        <p:spPr>
          <a:xfrm>
            <a:off x="6342840" y="1371600"/>
            <a:ext cx="91188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-1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拆字程序流程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"/>
          <p:cNvGrpSpPr/>
          <p:nvPr/>
        </p:nvGrpSpPr>
        <p:grpSpPr>
          <a:xfrm>
            <a:off x="1219320" y="762120"/>
            <a:ext cx="5028840" cy="5181480"/>
            <a:chOff x="1219320" y="762120"/>
            <a:chExt cx="5028840" cy="5181480"/>
          </a:xfrm>
        </p:grpSpPr>
        <p:sp>
          <p:nvSpPr>
            <p:cNvPr id="86" name=""/>
            <p:cNvSpPr/>
            <p:nvPr/>
          </p:nvSpPr>
          <p:spPr>
            <a:xfrm>
              <a:off x="2722680" y="5177520"/>
              <a:ext cx="2019600" cy="328320"/>
            </a:xfrm>
            <a:prstGeom prst="flowChartTerminator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结束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041200" y="1323360"/>
              <a:ext cx="3385080" cy="283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601"/>
                </a:spcBef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取数据</a:t>
              </a: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026080" y="1860120"/>
              <a:ext cx="3414960" cy="272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601"/>
                </a:spcBef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求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027880" y="2397240"/>
              <a:ext cx="3408840" cy="294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暂存</a:t>
              </a: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zh-CN" sz="1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041200" y="2966760"/>
              <a:ext cx="3385080" cy="294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601"/>
                </a:spcBef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取数据</a:t>
              </a: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047320" y="3503880"/>
              <a:ext cx="3369960" cy="283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求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06280" y="4040640"/>
              <a:ext cx="3453840" cy="261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求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Y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22680" y="762120"/>
              <a:ext cx="2019600" cy="328320"/>
            </a:xfrm>
            <a:prstGeom prst="flowChartTerminator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601"/>
                </a:spcBef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开始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732480" y="1090440"/>
              <a:ext cx="0" cy="25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732480" y="1627560"/>
              <a:ext cx="0" cy="25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732480" y="2153520"/>
              <a:ext cx="0" cy="25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732480" y="2712240"/>
              <a:ext cx="0" cy="25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732480" y="3281760"/>
              <a:ext cx="0" cy="25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32480" y="3818880"/>
              <a:ext cx="0" cy="25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732480" y="4355640"/>
              <a:ext cx="0" cy="25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006280" y="4610520"/>
              <a:ext cx="3453840" cy="30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保存平方和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732480" y="4936320"/>
              <a:ext cx="0" cy="25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219320" y="5636880"/>
              <a:ext cx="502884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6114240" y="1600200"/>
            <a:ext cx="9118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-2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.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程序流程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040" y="114300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【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.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】  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两个小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整数分别存于片内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0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1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单元，试求两数的平方和并将结果存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2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单元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解：两数均小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故两数的平方和小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可利用乘法指令求平方。程序流程如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-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所示。参考程序如下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OR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000H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MOV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0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取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0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单元数据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MOV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送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寄存器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114300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MU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结果在累加器中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MOV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R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将结果暂存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R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寄存器中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MOV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1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取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1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单元数据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MOV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送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寄存器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MU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结果在累加器中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D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R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+ Y</a:t>
            </a:r>
            <a:r>
              <a:rPr b="1" lang="zh-CN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MOV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2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保存数据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SJM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暂停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END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"/>
          <p:cNvGrpSpPr/>
          <p:nvPr/>
        </p:nvGrpSpPr>
        <p:grpSpPr>
          <a:xfrm>
            <a:off x="1600200" y="685800"/>
            <a:ext cx="4304880" cy="5409720"/>
            <a:chOff x="1600200" y="685800"/>
            <a:chExt cx="4304880" cy="5409720"/>
          </a:xfrm>
        </p:grpSpPr>
        <p:sp>
          <p:nvSpPr>
            <p:cNvPr id="110" name=""/>
            <p:cNvSpPr/>
            <p:nvPr/>
          </p:nvSpPr>
          <p:spPr>
            <a:xfrm>
              <a:off x="2887200" y="5295960"/>
              <a:ext cx="1728720" cy="343080"/>
            </a:xfrm>
            <a:prstGeom prst="flowChartTerminator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结束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303640" y="1271880"/>
              <a:ext cx="2897640" cy="296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601"/>
                </a:spcBef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取数据</a:t>
              </a: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290680" y="1832400"/>
              <a:ext cx="2923200" cy="285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601"/>
                </a:spcBef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求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292480" y="2392920"/>
              <a:ext cx="2918160" cy="307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暂存</a:t>
              </a: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zh-CN" sz="1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303640" y="2988000"/>
              <a:ext cx="2897640" cy="307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601"/>
                </a:spcBef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取数据</a:t>
              </a: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309040" y="3548520"/>
              <a:ext cx="2884680" cy="296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求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273760" y="4109040"/>
              <a:ext cx="2956680" cy="273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求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Y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887200" y="685800"/>
              <a:ext cx="1728720" cy="343080"/>
            </a:xfrm>
            <a:prstGeom prst="flowChartTerminator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601"/>
                </a:spcBef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开始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751560" y="1028880"/>
              <a:ext cx="0" cy="26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751560" y="1589400"/>
              <a:ext cx="0" cy="26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751560" y="2138400"/>
              <a:ext cx="0" cy="26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751560" y="2721960"/>
              <a:ext cx="0" cy="26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751560" y="3316680"/>
              <a:ext cx="0" cy="26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751560" y="3877200"/>
              <a:ext cx="0" cy="26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751560" y="4437720"/>
              <a:ext cx="0" cy="26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273760" y="4704120"/>
              <a:ext cx="2956680" cy="318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保存平方和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751560" y="5044320"/>
              <a:ext cx="0" cy="26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600200" y="5775480"/>
              <a:ext cx="430488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6404040" y="1523880"/>
            <a:ext cx="5461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-2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.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程序流程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931080" y="6420960"/>
            <a:ext cx="1450800" cy="398880"/>
          </a:xfrm>
          <a:prstGeom prst="rect">
            <a:avLst/>
          </a:prstGeom>
          <a:noFill/>
          <a:ln w="223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cc00cc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cc33"/>
                </a:solidFill>
                <a:latin typeface="Times New Roman"/>
              </a:rPr>
              <a:t>4.2.3  </a:t>
            </a:r>
            <a:r>
              <a:rPr b="1" lang="zh-CN" sz="3200" spc="-1" strike="noStrike">
                <a:solidFill>
                  <a:srgbClr val="33cc33"/>
                </a:solidFill>
                <a:latin typeface="Times New Roman"/>
              </a:rPr>
              <a:t>分支程序</a:t>
            </a:r>
            <a:r>
              <a:rPr b="1" lang="zh-CN" sz="3200" spc="-1" strike="noStrike">
                <a:solidFill>
                  <a:srgbClr val="33cc33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040" y="114300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分支程序的基本形式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分支程序有三种基本形式，如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-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所示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分支程序的设计要点如下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先建立可供条件转移指令测试的条件。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选用合适的条件转移指令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在转移的目的地址处设定标号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"/>
          <p:cNvGrpSpPr/>
          <p:nvPr/>
        </p:nvGrpSpPr>
        <p:grpSpPr>
          <a:xfrm>
            <a:off x="533520" y="914400"/>
            <a:ext cx="8000640" cy="4114800"/>
            <a:chOff x="533520" y="914400"/>
            <a:chExt cx="8000640" cy="4114800"/>
          </a:xfrm>
        </p:grpSpPr>
        <p:grpSp>
          <p:nvGrpSpPr>
            <p:cNvPr id="133" name=""/>
            <p:cNvGrpSpPr/>
            <p:nvPr/>
          </p:nvGrpSpPr>
          <p:grpSpPr>
            <a:xfrm>
              <a:off x="533520" y="935640"/>
              <a:ext cx="2918520" cy="2008080"/>
              <a:chOff x="533520" y="935640"/>
              <a:chExt cx="2918520" cy="2008080"/>
            </a:xfrm>
          </p:grpSpPr>
          <p:grpSp>
            <p:nvGrpSpPr>
              <p:cNvPr id="134" name=""/>
              <p:cNvGrpSpPr/>
              <p:nvPr/>
            </p:nvGrpSpPr>
            <p:grpSpPr>
              <a:xfrm>
                <a:off x="533520" y="1113480"/>
                <a:ext cx="2803320" cy="1049400"/>
                <a:chOff x="533520" y="1113480"/>
                <a:chExt cx="2803320" cy="104940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533520" y="1221120"/>
                  <a:ext cx="2409120" cy="403560"/>
                </a:xfrm>
                <a:prstGeom prst="flowChartDecision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条件满足？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1274760" y="1920960"/>
                  <a:ext cx="864720" cy="241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spcAft>
                      <a:spcPts val="6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1841040" y="1606680"/>
                  <a:ext cx="519840" cy="24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spcBef>
                      <a:spcPts val="601"/>
                    </a:spcBef>
                    <a:spcAft>
                      <a:spcPts val="400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Y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817000" y="1113480"/>
                  <a:ext cx="519840" cy="24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" name=""/>
              <p:cNvGrpSpPr/>
              <p:nvPr/>
            </p:nvGrpSpPr>
            <p:grpSpPr>
              <a:xfrm>
                <a:off x="1053360" y="935640"/>
                <a:ext cx="2398680" cy="2008080"/>
                <a:chOff x="1053360" y="935640"/>
                <a:chExt cx="2398680" cy="200808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3447360" y="1429560"/>
                  <a:ext cx="0" cy="890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1" name=""/>
                <p:cNvGrpSpPr/>
                <p:nvPr/>
              </p:nvGrpSpPr>
              <p:grpSpPr>
                <a:xfrm>
                  <a:off x="1053360" y="935640"/>
                  <a:ext cx="2398680" cy="2008080"/>
                  <a:chOff x="1053360" y="935640"/>
                  <a:chExt cx="2398680" cy="2008080"/>
                </a:xfrm>
              </p:grpSpPr>
              <p:grpSp>
                <p:nvGrpSpPr>
                  <p:cNvPr id="142" name=""/>
                  <p:cNvGrpSpPr/>
                  <p:nvPr/>
                </p:nvGrpSpPr>
                <p:grpSpPr>
                  <a:xfrm>
                    <a:off x="1725480" y="935640"/>
                    <a:ext cx="1726560" cy="1622520"/>
                    <a:chOff x="1725480" y="935640"/>
                    <a:chExt cx="1726560" cy="1622520"/>
                  </a:xfrm>
                </p:grpSpPr>
                <p:sp>
                  <p:nvSpPr>
                    <p:cNvPr id="143" name=""/>
                    <p:cNvSpPr/>
                    <p:nvPr/>
                  </p:nvSpPr>
                  <p:spPr>
                    <a:xfrm>
                      <a:off x="1725480" y="935640"/>
                      <a:ext cx="0" cy="286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stealth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4" name=""/>
                    <p:cNvSpPr/>
                    <p:nvPr/>
                  </p:nvSpPr>
                  <p:spPr>
                    <a:xfrm>
                      <a:off x="2957760" y="1418400"/>
                      <a:ext cx="494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stealth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5" name=""/>
                    <p:cNvSpPr/>
                    <p:nvPr/>
                  </p:nvSpPr>
                  <p:spPr>
                    <a:xfrm>
                      <a:off x="1729440" y="1626480"/>
                      <a:ext cx="0" cy="2923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stealth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6" name=""/>
                    <p:cNvSpPr/>
                    <p:nvPr/>
                  </p:nvSpPr>
                  <p:spPr>
                    <a:xfrm flipH="1">
                      <a:off x="1731240" y="2311200"/>
                      <a:ext cx="170496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7" name=""/>
                    <p:cNvSpPr/>
                    <p:nvPr/>
                  </p:nvSpPr>
                  <p:spPr>
                    <a:xfrm>
                      <a:off x="1731240" y="2163240"/>
                      <a:ext cx="0" cy="394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stealth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8" name=""/>
                    <p:cNvSpPr/>
                    <p:nvPr/>
                  </p:nvSpPr>
                  <p:spPr>
                    <a:xfrm flipH="1">
                      <a:off x="2201040" y="2311200"/>
                      <a:ext cx="8647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stealth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49" name=""/>
                  <p:cNvSpPr/>
                  <p:nvPr/>
                </p:nvSpPr>
                <p:spPr>
                  <a:xfrm>
                    <a:off x="1053360" y="2584800"/>
                    <a:ext cx="1420560" cy="358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0800" bIns="1080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（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a</a:t>
                    </a:r>
                    <a:r>
                      <a:rPr b="0" lang="zh-CN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）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50" name=""/>
            <p:cNvGrpSpPr/>
            <p:nvPr/>
          </p:nvGrpSpPr>
          <p:grpSpPr>
            <a:xfrm>
              <a:off x="5259960" y="914400"/>
              <a:ext cx="3274200" cy="2002320"/>
              <a:chOff x="5259960" y="914400"/>
              <a:chExt cx="3274200" cy="2002320"/>
            </a:xfrm>
          </p:grpSpPr>
          <p:sp>
            <p:nvSpPr>
              <p:cNvPr id="151" name=""/>
              <p:cNvSpPr/>
              <p:nvPr/>
            </p:nvSpPr>
            <p:spPr>
              <a:xfrm>
                <a:off x="7664400" y="1397160"/>
                <a:ext cx="494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8157600" y="2126880"/>
                <a:ext cx="0" cy="170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3" name=""/>
              <p:cNvGrpSpPr/>
              <p:nvPr/>
            </p:nvGrpSpPr>
            <p:grpSpPr>
              <a:xfrm>
                <a:off x="5259960" y="914400"/>
                <a:ext cx="3274200" cy="2002320"/>
                <a:chOff x="5259960" y="914400"/>
                <a:chExt cx="3274200" cy="2002320"/>
              </a:xfrm>
            </p:grpSpPr>
            <p:grpSp>
              <p:nvGrpSpPr>
                <p:cNvPr id="154" name=""/>
                <p:cNvGrpSpPr/>
                <p:nvPr/>
              </p:nvGrpSpPr>
              <p:grpSpPr>
                <a:xfrm>
                  <a:off x="5259960" y="914400"/>
                  <a:ext cx="3274200" cy="1614240"/>
                  <a:chOff x="5259960" y="914400"/>
                  <a:chExt cx="3274200" cy="1614240"/>
                </a:xfrm>
              </p:grpSpPr>
              <p:sp>
                <p:nvSpPr>
                  <p:cNvPr id="155" name=""/>
                  <p:cNvSpPr/>
                  <p:nvPr/>
                </p:nvSpPr>
                <p:spPr>
                  <a:xfrm>
                    <a:off x="5259960" y="1192320"/>
                    <a:ext cx="2409480" cy="403560"/>
                  </a:xfrm>
                  <a:prstGeom prst="flowChartDecision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条件满足？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" name=""/>
                  <p:cNvSpPr/>
                  <p:nvPr/>
                </p:nvSpPr>
                <p:spPr>
                  <a:xfrm>
                    <a:off x="6452280" y="914400"/>
                    <a:ext cx="0" cy="286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lg" type="stealth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" name=""/>
                  <p:cNvSpPr/>
                  <p:nvPr/>
                </p:nvSpPr>
                <p:spPr>
                  <a:xfrm>
                    <a:off x="6001200" y="1892160"/>
                    <a:ext cx="864720" cy="2419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spcBef>
                        <a:spcPts val="601"/>
                      </a:spcBef>
                      <a:spcAft>
                        <a:spcPts val="400"/>
                      </a:spcAft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A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58" name=""/>
                  <p:cNvGrpSpPr/>
                  <p:nvPr/>
                </p:nvGrpSpPr>
                <p:grpSpPr>
                  <a:xfrm>
                    <a:off x="6446160" y="1407600"/>
                    <a:ext cx="1717560" cy="1121040"/>
                    <a:chOff x="6446160" y="1407600"/>
                    <a:chExt cx="1717560" cy="1121040"/>
                  </a:xfrm>
                </p:grpSpPr>
                <p:sp>
                  <p:nvSpPr>
                    <p:cNvPr id="159" name=""/>
                    <p:cNvSpPr/>
                    <p:nvPr/>
                  </p:nvSpPr>
                  <p:spPr>
                    <a:xfrm>
                      <a:off x="6446160" y="1604880"/>
                      <a:ext cx="0" cy="286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stealth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0" name=""/>
                    <p:cNvSpPr/>
                    <p:nvPr/>
                  </p:nvSpPr>
                  <p:spPr>
                    <a:xfrm>
                      <a:off x="8163720" y="1407600"/>
                      <a:ext cx="0" cy="475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1" name=""/>
                    <p:cNvSpPr/>
                    <p:nvPr/>
                  </p:nvSpPr>
                  <p:spPr>
                    <a:xfrm flipH="1">
                      <a:off x="6457680" y="2289600"/>
                      <a:ext cx="17053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2" name=""/>
                    <p:cNvSpPr/>
                    <p:nvPr/>
                  </p:nvSpPr>
                  <p:spPr>
                    <a:xfrm>
                      <a:off x="6458040" y="2134080"/>
                      <a:ext cx="0" cy="3945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stealth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3" name=""/>
                    <p:cNvSpPr/>
                    <p:nvPr/>
                  </p:nvSpPr>
                  <p:spPr>
                    <a:xfrm flipH="1">
                      <a:off x="6927840" y="2289600"/>
                      <a:ext cx="8647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stealth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64" name=""/>
                  <p:cNvSpPr/>
                  <p:nvPr/>
                </p:nvSpPr>
                <p:spPr>
                  <a:xfrm>
                    <a:off x="7669440" y="1883160"/>
                    <a:ext cx="864720" cy="2419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spcBef>
                        <a:spcPts val="601"/>
                      </a:spcBef>
                      <a:spcAft>
                        <a:spcPts val="400"/>
                      </a:spcAft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B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" name=""/>
                  <p:cNvSpPr/>
                  <p:nvPr/>
                </p:nvSpPr>
                <p:spPr>
                  <a:xfrm>
                    <a:off x="7543800" y="1129680"/>
                    <a:ext cx="519840" cy="241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spcBef>
                        <a:spcPts val="601"/>
                      </a:spcBef>
                      <a:spcAft>
                        <a:spcPts val="400"/>
                      </a:spcAft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N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6" name=""/>
                  <p:cNvSpPr/>
                  <p:nvPr/>
                </p:nvSpPr>
                <p:spPr>
                  <a:xfrm>
                    <a:off x="6530400" y="1613880"/>
                    <a:ext cx="519840" cy="241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spcAft>
                        <a:spcPts val="601"/>
                      </a:spcAft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Y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7" name=""/>
                <p:cNvSpPr/>
                <p:nvPr/>
              </p:nvSpPr>
              <p:spPr>
                <a:xfrm>
                  <a:off x="5797080" y="2558160"/>
                  <a:ext cx="1445760" cy="358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0800" bIns="10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（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）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8" name=""/>
            <p:cNvSpPr/>
            <p:nvPr/>
          </p:nvSpPr>
          <p:spPr>
            <a:xfrm>
              <a:off x="3143880" y="4670280"/>
              <a:ext cx="343476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9" name=""/>
            <p:cNvGrpSpPr/>
            <p:nvPr/>
          </p:nvGrpSpPr>
          <p:grpSpPr>
            <a:xfrm>
              <a:off x="3148920" y="2569320"/>
              <a:ext cx="3474720" cy="2138760"/>
              <a:chOff x="3148920" y="2569320"/>
              <a:chExt cx="3474720" cy="2138760"/>
            </a:xfrm>
          </p:grpSpPr>
          <p:sp>
            <p:nvSpPr>
              <p:cNvPr id="170" name=""/>
              <p:cNvSpPr/>
              <p:nvPr/>
            </p:nvSpPr>
            <p:spPr>
              <a:xfrm>
                <a:off x="4117680" y="4423320"/>
                <a:ext cx="1581480" cy="28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Times New Roman"/>
                  </a:rPr>
                  <a:t>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Times New Roman"/>
                  </a:rPr>
                  <a:t>）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1" name=""/>
              <p:cNvGrpSpPr/>
              <p:nvPr/>
            </p:nvGrpSpPr>
            <p:grpSpPr>
              <a:xfrm>
                <a:off x="3148920" y="2569320"/>
                <a:ext cx="3474720" cy="1885320"/>
                <a:chOff x="3148920" y="2569320"/>
                <a:chExt cx="3474720" cy="188532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3148920" y="3701160"/>
                  <a:ext cx="494280" cy="241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0800" bIns="10800" anchor="t">
                  <a:noAutofit/>
                </a:bodyPr>
                <a:p>
                  <a:pPr algn="ctr">
                    <a:spcAft>
                      <a:spcPts val="6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A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3840840" y="3701160"/>
                  <a:ext cx="493920" cy="241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0800" bIns="10800" anchor="t">
                  <a:noAutofit/>
                </a:bodyPr>
                <a:p>
                  <a:pPr algn="ctr">
                    <a:spcAft>
                      <a:spcPts val="6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A1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5929200" y="3701160"/>
                  <a:ext cx="493920" cy="241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0800" bIns="10800" anchor="t">
                  <a:noAutofit/>
                </a:bodyPr>
                <a:p>
                  <a:pPr algn="ctr">
                    <a:spcAft>
                      <a:spcPts val="6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A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5" name=""/>
                <p:cNvGrpSpPr/>
                <p:nvPr/>
              </p:nvGrpSpPr>
              <p:grpSpPr>
                <a:xfrm>
                  <a:off x="3263040" y="2569320"/>
                  <a:ext cx="3360600" cy="1885320"/>
                  <a:chOff x="3263040" y="2569320"/>
                  <a:chExt cx="3360600" cy="1885320"/>
                </a:xfrm>
              </p:grpSpPr>
              <p:sp>
                <p:nvSpPr>
                  <p:cNvPr id="176" name=""/>
                  <p:cNvSpPr/>
                  <p:nvPr/>
                </p:nvSpPr>
                <p:spPr>
                  <a:xfrm>
                    <a:off x="3263040" y="3186000"/>
                    <a:ext cx="3360600" cy="241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K=0  K=1         …  K=n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77" name=""/>
                  <p:cNvGrpSpPr/>
                  <p:nvPr/>
                </p:nvGrpSpPr>
                <p:grpSpPr>
                  <a:xfrm>
                    <a:off x="3405600" y="2569320"/>
                    <a:ext cx="2806920" cy="1885320"/>
                    <a:chOff x="3405600" y="2569320"/>
                    <a:chExt cx="2806920" cy="1885320"/>
                  </a:xfrm>
                </p:grpSpPr>
                <p:sp>
                  <p:nvSpPr>
                    <p:cNvPr id="178" name=""/>
                    <p:cNvSpPr/>
                    <p:nvPr/>
                  </p:nvSpPr>
                  <p:spPr>
                    <a:xfrm>
                      <a:off x="4866840" y="3266640"/>
                      <a:ext cx="0" cy="2242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stealth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79" name=""/>
                    <p:cNvGrpSpPr/>
                    <p:nvPr/>
                  </p:nvGrpSpPr>
                  <p:grpSpPr>
                    <a:xfrm>
                      <a:off x="3405600" y="2569320"/>
                      <a:ext cx="2806920" cy="1885320"/>
                      <a:chOff x="3405600" y="2569320"/>
                      <a:chExt cx="2806920" cy="1885320"/>
                    </a:xfrm>
                  </p:grpSpPr>
                  <p:sp>
                    <p:nvSpPr>
                      <p:cNvPr id="180" name=""/>
                      <p:cNvSpPr/>
                      <p:nvPr/>
                    </p:nvSpPr>
                    <p:spPr>
                      <a:xfrm>
                        <a:off x="3926520" y="2857680"/>
                        <a:ext cx="1865520" cy="403560"/>
                      </a:xfrm>
                      <a:prstGeom prst="flowChartDecision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18000" rIns="18000" tIns="10800" bIns="10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8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K=</a:t>
                        </a:r>
                        <a:r>
                          <a:rPr b="0" lang="zh-CN" sz="18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？</a:t>
                        </a:r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1" name=""/>
                      <p:cNvSpPr/>
                      <p:nvPr/>
                    </p:nvSpPr>
                    <p:spPr>
                      <a:xfrm>
                        <a:off x="4865760" y="2569320"/>
                        <a:ext cx="0" cy="2869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  <a:tailEnd len="lg" type="stealth" w="sm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2" name=""/>
                      <p:cNvSpPr/>
                      <p:nvPr/>
                    </p:nvSpPr>
                    <p:spPr>
                      <a:xfrm flipH="1">
                        <a:off x="3432240" y="3476880"/>
                        <a:ext cx="27799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3" name=""/>
                      <p:cNvSpPr/>
                      <p:nvPr/>
                    </p:nvSpPr>
                    <p:spPr>
                      <a:xfrm>
                        <a:off x="4865760" y="4158720"/>
                        <a:ext cx="0" cy="2959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  <a:tailEnd len="lg" type="stealth" w="sm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4" name=""/>
                      <p:cNvSpPr/>
                      <p:nvPr/>
                    </p:nvSpPr>
                    <p:spPr>
                      <a:xfrm>
                        <a:off x="3444840" y="3485880"/>
                        <a:ext cx="0" cy="21528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  <a:tailEnd len="lg" type="stealth" w="sm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5" name=""/>
                      <p:cNvSpPr/>
                      <p:nvPr/>
                    </p:nvSpPr>
                    <p:spPr>
                      <a:xfrm>
                        <a:off x="4087440" y="3485880"/>
                        <a:ext cx="0" cy="21528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  <a:tailEnd len="lg" type="stealth" w="sm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6" name=""/>
                      <p:cNvSpPr/>
                      <p:nvPr/>
                    </p:nvSpPr>
                    <p:spPr>
                      <a:xfrm>
                        <a:off x="6212520" y="3485880"/>
                        <a:ext cx="0" cy="21528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  <a:tailEnd len="lg" type="stealth" w="sm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7" name=""/>
                      <p:cNvSpPr/>
                      <p:nvPr/>
                    </p:nvSpPr>
                    <p:spPr>
                      <a:xfrm>
                        <a:off x="6187680" y="3949200"/>
                        <a:ext cx="0" cy="21528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  <a:tailEnd len="lg" type="stealth" w="sm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8" name=""/>
                      <p:cNvSpPr/>
                      <p:nvPr/>
                    </p:nvSpPr>
                    <p:spPr>
                      <a:xfrm>
                        <a:off x="4074840" y="3952440"/>
                        <a:ext cx="0" cy="21528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  <a:tailEnd len="lg" type="stealth" w="sm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9" name=""/>
                      <p:cNvSpPr/>
                      <p:nvPr/>
                    </p:nvSpPr>
                    <p:spPr>
                      <a:xfrm>
                        <a:off x="3407760" y="3946320"/>
                        <a:ext cx="0" cy="21528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  <a:tailEnd len="lg" type="stealth" w="sm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0" name=""/>
                      <p:cNvSpPr/>
                      <p:nvPr/>
                    </p:nvSpPr>
                    <p:spPr>
                      <a:xfrm flipH="1">
                        <a:off x="3405600" y="4158720"/>
                        <a:ext cx="278388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1" name=""/>
                      <p:cNvSpPr/>
                      <p:nvPr/>
                    </p:nvSpPr>
                    <p:spPr>
                      <a:xfrm>
                        <a:off x="4688640" y="3659400"/>
                        <a:ext cx="648360" cy="2455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18000" rIns="18000" tIns="10800" bIns="10800" anchor="t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zh-CN" sz="18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……</a:t>
                        </a:r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</p:grpSp>
      </p:grpSp>
      <p:sp>
        <p:nvSpPr>
          <p:cNvPr id="192" name=""/>
          <p:cNvSpPr/>
          <p:nvPr/>
        </p:nvSpPr>
        <p:spPr>
          <a:xfrm>
            <a:off x="2438280" y="510552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-3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分支程序结构流程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040" y="114300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双向分支程序设计举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【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.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】  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存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0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单元中，根据下式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X+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X&gt;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Y =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X=0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求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值，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值存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1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单元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∣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X∣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X&lt;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解：根据数据的符号位判别该数的正负，若最高位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再判别该数是否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程序流程如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-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所示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参考程序如下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OR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000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2590920"/>
            <a:ext cx="304920" cy="1066680"/>
          </a:xfrm>
          <a:custGeom>
            <a:avLst/>
            <a:gdLst>
              <a:gd name="textAreaLeft" fmla="*/ 194760 w 304920"/>
              <a:gd name="textAreaRight" fmla="*/ 305280 w 30492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cc33"/>
                </a:solidFill>
                <a:latin typeface="Times New Roman"/>
              </a:rPr>
              <a:t>4.1  </a:t>
            </a:r>
            <a:r>
              <a:rPr b="1" lang="zh-CN" sz="3200" spc="-1" strike="noStrike">
                <a:solidFill>
                  <a:srgbClr val="33cc33"/>
                </a:solidFill>
                <a:latin typeface="Times New Roman"/>
              </a:rPr>
              <a:t>汇编语言基本概念</a:t>
            </a:r>
            <a:endParaRPr b="1" lang="en-US" sz="32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18960" y="1371600"/>
            <a:ext cx="7086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c00cc"/>
                </a:solidFill>
                <a:uFillTx/>
                <a:latin typeface="Times New Roman"/>
                <a:hlinkClick r:id="rId1" action="ppaction://hlinksldjump"/>
              </a:rPr>
              <a:t>4.1.1  程序设计语言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c00cc"/>
                </a:solidFill>
                <a:uFillTx/>
                <a:latin typeface="Times New Roman"/>
                <a:hlinkClick r:id="rId2" action="ppaction://hlinksldjump"/>
              </a:rPr>
              <a:t>4.1.2  汇编语言的语句结构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c00cc"/>
                </a:solidFill>
                <a:uFillTx/>
                <a:latin typeface="Times New Roman"/>
                <a:hlinkClick r:id="rId3" action="ppaction://hlinksldjump"/>
              </a:rPr>
              <a:t>4.1.3  伪指令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934320" y="6420960"/>
            <a:ext cx="1730160" cy="398880"/>
          </a:xfrm>
          <a:prstGeom prst="rect">
            <a:avLst/>
          </a:prstGeom>
          <a:noFill/>
          <a:ln w="223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cc00cc"/>
                </a:solidFill>
                <a:latin typeface="Times New Roman"/>
                <a:ea typeface="隶书"/>
              </a:rPr>
              <a:t>返回本章首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90360" y="1142640"/>
            <a:ext cx="7543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MOV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0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；取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J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CC.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NE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；负数，转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NEG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JZ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ZER0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；为零，转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ZER0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D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#02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；为正数，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X+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JMP   SAV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；转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SAV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保存数据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ZER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MOV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# 64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；数据为零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Y=100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JMP   SAV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；转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SAV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保存数据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NE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DEC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CPL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；求∣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X∣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SAV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MOV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1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；保存数据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SJM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＄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；暂停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"/>
          <p:cNvGrpSpPr/>
          <p:nvPr/>
        </p:nvGrpSpPr>
        <p:grpSpPr>
          <a:xfrm>
            <a:off x="1219320" y="762120"/>
            <a:ext cx="5366880" cy="5333760"/>
            <a:chOff x="1219320" y="762120"/>
            <a:chExt cx="5366880" cy="5333760"/>
          </a:xfrm>
        </p:grpSpPr>
        <p:sp>
          <p:nvSpPr>
            <p:cNvPr id="199" name=""/>
            <p:cNvSpPr/>
            <p:nvPr/>
          </p:nvSpPr>
          <p:spPr>
            <a:xfrm>
              <a:off x="1468080" y="5763600"/>
              <a:ext cx="4914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179080" y="1989000"/>
              <a:ext cx="3085200" cy="543600"/>
            </a:xfrm>
            <a:prstGeom prst="flowChartDecisi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为负数？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3668040" y="1686600"/>
              <a:ext cx="3240" cy="31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709080" y="2544840"/>
              <a:ext cx="0" cy="38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870160" y="2269080"/>
              <a:ext cx="0" cy="1210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12320" y="3489840"/>
              <a:ext cx="15120" cy="45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513400" y="1916280"/>
              <a:ext cx="854640" cy="32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601"/>
                </a:spcBef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982520" y="1372320"/>
              <a:ext cx="3391560" cy="314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取数，</a:t>
              </a: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A←</a:t>
              </a: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30H</a:t>
              </a: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795040" y="762120"/>
              <a:ext cx="1746720" cy="338400"/>
            </a:xfrm>
            <a:prstGeom prst="flowChartTerminator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601"/>
                </a:spcBef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开始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889720" y="5298120"/>
              <a:ext cx="1746720" cy="362520"/>
            </a:xfrm>
            <a:prstGeom prst="flowChartTerminator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601"/>
                </a:spcBef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结束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368800" y="2931840"/>
              <a:ext cx="2701080" cy="543960"/>
            </a:xfrm>
            <a:prstGeom prst="flowChartDecisi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=0</a:t>
              </a: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？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837080" y="2883600"/>
              <a:ext cx="854640" cy="32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601"/>
                </a:spcBef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624480" y="2544840"/>
              <a:ext cx="854640" cy="32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601"/>
                </a:spcBef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604320" y="3475800"/>
              <a:ext cx="854640" cy="32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090040" y="3475800"/>
              <a:ext cx="1496160" cy="326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000000"/>
                  </a:solidFill>
                  <a:latin typeface="宋体"/>
                </a:rPr>
                <a:t>←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|X|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219320" y="3475800"/>
              <a:ext cx="1315080" cy="326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←64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701800" y="3931920"/>
              <a:ext cx="2071800" cy="326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000000"/>
                  </a:solidFill>
                  <a:latin typeface="宋体"/>
                </a:rPr>
                <a:t>←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X+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875560" y="3808080"/>
              <a:ext cx="0" cy="67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930320" y="4497120"/>
              <a:ext cx="184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3707280" y="4491360"/>
              <a:ext cx="216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778560" y="4273560"/>
              <a:ext cx="0" cy="37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084400" y="4666320"/>
              <a:ext cx="3391560" cy="326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存数，（</a:t>
              </a: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31H</a:t>
              </a: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r>
                <a:rPr b="0" lang="zh-CN" sz="1800" spc="-1" strike="noStrike">
                  <a:solidFill>
                    <a:srgbClr val="000000"/>
                  </a:solidFill>
                  <a:latin typeface="宋体"/>
                </a:rPr>
                <a:t>←</a:t>
              </a:r>
              <a:r>
                <a:rPr b="0" lang="zh-CN" sz="1800" spc="-1" strike="noStrike">
                  <a:solidFill>
                    <a:srgbClr val="000000"/>
                  </a:solidFill>
                  <a:latin typeface="宋体"/>
                </a:rPr>
                <a:t>A</a:t>
              </a:r>
              <a:r>
                <a:rPr b="0" lang="zh-CN" sz="1800" spc="-1" strike="noStrike">
                  <a:solidFill>
                    <a:srgbClr val="000000"/>
                  </a:solidFill>
                  <a:latin typeface="宋体"/>
                </a:rPr>
                <a:t>（</a:t>
              </a:r>
              <a:r>
                <a:rPr b="0" lang="zh-CN" sz="1800" spc="-1" strike="noStrike">
                  <a:solidFill>
                    <a:srgbClr val="000000"/>
                  </a:solidFill>
                  <a:latin typeface="宋体"/>
                </a:rPr>
                <a:t>3</a:t>
              </a: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0H</a:t>
              </a: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931760" y="3203640"/>
              <a:ext cx="0" cy="27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769920" y="4998960"/>
              <a:ext cx="0" cy="31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930320" y="3805200"/>
              <a:ext cx="0" cy="68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266080" y="2260800"/>
              <a:ext cx="604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1933560" y="3203640"/>
              <a:ext cx="421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>
            <a:off x="6631920" y="1523880"/>
            <a:ext cx="9118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-4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.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程序流程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4040" y="114300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多向分支程序设计举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【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.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】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根据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R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值转向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个分支程序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R0&lt;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转向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SUB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R0&lt;2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转向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SUB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R0&lt;6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转向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SUB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R06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转向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SUB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解：利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JMP @A+DPTR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指令直接给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P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赋值，使程序实现转移。程序流程如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-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所示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53384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1295280" y="3352680"/>
                <a:ext cx="2239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⋮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90720" y="99036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参考程序如下：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ORG    2000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MOV    DPTR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#TA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；转移指令表首地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MOV    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R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；取数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MOV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#10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DIV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B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商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CLR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RLC    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←2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JMP   @A+DPTR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PC ← A+DPT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AB: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JM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SUB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；转移指令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JMP  SUB1     AJM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SUB2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JMP  SUB5     AJM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SUB6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"/>
          <p:cNvGrpSpPr/>
          <p:nvPr/>
        </p:nvGrpSpPr>
        <p:grpSpPr>
          <a:xfrm>
            <a:off x="1600200" y="1143000"/>
            <a:ext cx="5638320" cy="3580920"/>
            <a:chOff x="1600200" y="1143000"/>
            <a:chExt cx="5638320" cy="3580920"/>
          </a:xfrm>
        </p:grpSpPr>
        <p:sp>
          <p:nvSpPr>
            <p:cNvPr id="234" name=""/>
            <p:cNvSpPr/>
            <p:nvPr/>
          </p:nvSpPr>
          <p:spPr>
            <a:xfrm>
              <a:off x="3422520" y="1920240"/>
              <a:ext cx="2170440" cy="583560"/>
            </a:xfrm>
            <a:prstGeom prst="flowChartDecisi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K=</a:t>
              </a: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？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519800" y="1522440"/>
              <a:ext cx="0" cy="41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500720" y="2560320"/>
              <a:ext cx="0" cy="31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600200" y="3170520"/>
              <a:ext cx="1384200" cy="349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转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UB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2292120" y="2856960"/>
              <a:ext cx="428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292480" y="2859120"/>
              <a:ext cx="0" cy="31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808440" y="2859120"/>
              <a:ext cx="0" cy="31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572880" y="2859120"/>
              <a:ext cx="0" cy="31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535440" y="3540240"/>
              <a:ext cx="0" cy="31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808440" y="3533760"/>
              <a:ext cx="0" cy="31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297160" y="3546720"/>
              <a:ext cx="0" cy="31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163320" y="3183120"/>
              <a:ext cx="1370160" cy="350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转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UB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720400" y="3177720"/>
              <a:ext cx="1450440" cy="350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转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UB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14640" y="2511720"/>
              <a:ext cx="5123880" cy="35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K=0     K=1      ……  K=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766320" y="1143000"/>
              <a:ext cx="1620000" cy="363240"/>
            </a:xfrm>
            <a:prstGeom prst="flowChartTerminator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601"/>
                </a:spcBef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开始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2297160" y="3832200"/>
              <a:ext cx="423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482000" y="3845160"/>
              <a:ext cx="0" cy="41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094480" y="4374000"/>
              <a:ext cx="4806720" cy="34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2438280" y="5105520"/>
            <a:ext cx="38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-5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多向分支程序流程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931080" y="6420960"/>
            <a:ext cx="1450800" cy="398880"/>
          </a:xfrm>
          <a:prstGeom prst="rect">
            <a:avLst/>
          </a:prstGeom>
          <a:noFill/>
          <a:ln w="223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cc00cc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cc33"/>
                </a:solidFill>
                <a:latin typeface="Times New Roman"/>
              </a:rPr>
              <a:t>4.2.4  </a:t>
            </a:r>
            <a:r>
              <a:rPr b="1" lang="zh-CN" sz="3200" spc="-1" strike="noStrike">
                <a:solidFill>
                  <a:srgbClr val="33cc33"/>
                </a:solidFill>
                <a:latin typeface="Times New Roman"/>
              </a:rPr>
              <a:t>循环程序</a:t>
            </a:r>
            <a:r>
              <a:rPr b="1" lang="zh-CN" sz="3200" spc="-1" strike="noStrike">
                <a:solidFill>
                  <a:srgbClr val="33cc33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14040" y="114300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循环程序的结构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如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-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所示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99ff"/>
                </a:solidFill>
                <a:latin typeface="Times New Roman"/>
              </a:rPr>
              <a:t>☆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循环程序一般包括如下四个部分：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初始化      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循环体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循环控制  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结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99ff"/>
                </a:solidFill>
                <a:latin typeface="Times New Roman"/>
              </a:rPr>
              <a:t>☆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循环程序按结构形式，有单重循环与多重循环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99ff"/>
                </a:solidFill>
                <a:latin typeface="Times New Roman"/>
              </a:rPr>
              <a:t>☆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在多重循环中，只允许外重循环嵌套内重循环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99ff"/>
                </a:solidFill>
                <a:latin typeface="Times New Roman"/>
              </a:rPr>
              <a:t>☆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不允许循环相互交叉，也不允许从循环程序的外部跳入循环程序的内部（如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-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所示）。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456840" y="457200"/>
            <a:ext cx="7620120" cy="5486400"/>
            <a:chOff x="456840" y="457200"/>
            <a:chExt cx="7620120" cy="5486400"/>
          </a:xfrm>
        </p:grpSpPr>
        <p:sp>
          <p:nvSpPr>
            <p:cNvPr id="257" name=""/>
            <p:cNvSpPr/>
            <p:nvPr/>
          </p:nvSpPr>
          <p:spPr>
            <a:xfrm>
              <a:off x="2788920" y="5612400"/>
              <a:ext cx="3076560" cy="33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937800" y="5191560"/>
              <a:ext cx="18990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）当型循环结构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69720" y="5127840"/>
              <a:ext cx="2259360" cy="46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）直到型循环结构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73560" y="2337480"/>
              <a:ext cx="2643840" cy="508320"/>
            </a:xfrm>
            <a:prstGeom prst="flowChartDecisi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循环结束？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995480" y="774720"/>
              <a:ext cx="0" cy="28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285720" y="2585880"/>
              <a:ext cx="296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995480" y="2846880"/>
              <a:ext cx="0" cy="31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514880" y="3163680"/>
              <a:ext cx="961200" cy="31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循环体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995480" y="2114280"/>
              <a:ext cx="0" cy="24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228120" y="2330640"/>
              <a:ext cx="29520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601"/>
                </a:spcBef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115720" y="2840040"/>
              <a:ext cx="648720" cy="31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456840" y="3666240"/>
              <a:ext cx="1538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1995120" y="3793320"/>
              <a:ext cx="1586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57200" y="1569240"/>
              <a:ext cx="1514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994400" y="4433760"/>
              <a:ext cx="0" cy="29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57200" y="1569240"/>
              <a:ext cx="0" cy="209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298160" y="1057680"/>
              <a:ext cx="1393920" cy="352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初始化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226160" y="1759680"/>
              <a:ext cx="1538280" cy="352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修改循环参数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359000" y="4079520"/>
              <a:ext cx="1273680" cy="352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结束部分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995480" y="1410120"/>
              <a:ext cx="0" cy="31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7" name=""/>
            <p:cNvGrpSpPr/>
            <p:nvPr/>
          </p:nvGrpSpPr>
          <p:grpSpPr>
            <a:xfrm>
              <a:off x="1455120" y="457200"/>
              <a:ext cx="1081800" cy="317520"/>
              <a:chOff x="1455120" y="457200"/>
              <a:chExt cx="1081800" cy="317520"/>
            </a:xfrm>
          </p:grpSpPr>
          <p:sp>
            <p:nvSpPr>
              <p:cNvPr id="278" name=""/>
              <p:cNvSpPr/>
              <p:nvPr/>
            </p:nvSpPr>
            <p:spPr>
              <a:xfrm>
                <a:off x="1455120" y="457200"/>
                <a:ext cx="1081800" cy="317520"/>
              </a:xfrm>
              <a:prstGeom prst="flowChartTerminator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1671480" y="488520"/>
                <a:ext cx="721080" cy="25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Aft>
                    <a:spcPts val="6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Times New Roman"/>
                  </a:rPr>
                  <a:t>开始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0" name=""/>
            <p:cNvSpPr/>
            <p:nvPr/>
          </p:nvSpPr>
          <p:spPr>
            <a:xfrm>
              <a:off x="1995480" y="3793320"/>
              <a:ext cx="0" cy="30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582000" y="2585880"/>
              <a:ext cx="0" cy="120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455120" y="4714920"/>
              <a:ext cx="1081800" cy="317880"/>
            </a:xfrm>
            <a:prstGeom prst="flowChartTerminator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671480" y="4746600"/>
              <a:ext cx="72108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结束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995480" y="3475800"/>
              <a:ext cx="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432760" y="3157920"/>
              <a:ext cx="2644200" cy="508320"/>
            </a:xfrm>
            <a:prstGeom prst="flowChartDecisi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循环结束？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743520" y="991440"/>
              <a:ext cx="0" cy="28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262920" y="1918800"/>
              <a:ext cx="961200" cy="31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循环体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743520" y="2229840"/>
              <a:ext cx="0" cy="30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779160" y="3640320"/>
              <a:ext cx="577800" cy="31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601"/>
                </a:spcBef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5144400" y="3412080"/>
              <a:ext cx="336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145480" y="1785600"/>
              <a:ext cx="1585440" cy="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743520" y="4269960"/>
              <a:ext cx="0" cy="254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5144400" y="1791360"/>
              <a:ext cx="720" cy="162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046560" y="1274400"/>
              <a:ext cx="1393920" cy="352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初始化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974560" y="2522160"/>
              <a:ext cx="1538280" cy="352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修改循环参数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105960" y="3920400"/>
              <a:ext cx="1273680" cy="352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结束部分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743520" y="1626840"/>
              <a:ext cx="0" cy="31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8" name=""/>
            <p:cNvGrpSpPr/>
            <p:nvPr/>
          </p:nvGrpSpPr>
          <p:grpSpPr>
            <a:xfrm>
              <a:off x="6202080" y="673560"/>
              <a:ext cx="1081800" cy="317520"/>
              <a:chOff x="6202080" y="673560"/>
              <a:chExt cx="1081800" cy="317520"/>
            </a:xfrm>
          </p:grpSpPr>
          <p:sp>
            <p:nvSpPr>
              <p:cNvPr id="299" name=""/>
              <p:cNvSpPr/>
              <p:nvPr/>
            </p:nvSpPr>
            <p:spPr>
              <a:xfrm>
                <a:off x="6202080" y="673560"/>
                <a:ext cx="1081800" cy="317520"/>
              </a:xfrm>
              <a:prstGeom prst="flowChartTerminator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6418440" y="704880"/>
                <a:ext cx="721080" cy="25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Times New Roman"/>
                  </a:rPr>
                  <a:t>开始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5222520" y="3232080"/>
              <a:ext cx="266400" cy="20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742800" y="3666240"/>
              <a:ext cx="11160" cy="254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3" name=""/>
            <p:cNvGrpSpPr/>
            <p:nvPr/>
          </p:nvGrpSpPr>
          <p:grpSpPr>
            <a:xfrm>
              <a:off x="6202080" y="4524120"/>
              <a:ext cx="1081800" cy="317520"/>
              <a:chOff x="6202080" y="4524120"/>
              <a:chExt cx="1081800" cy="317520"/>
            </a:xfrm>
          </p:grpSpPr>
          <p:sp>
            <p:nvSpPr>
              <p:cNvPr id="304" name=""/>
              <p:cNvSpPr/>
              <p:nvPr/>
            </p:nvSpPr>
            <p:spPr>
              <a:xfrm>
                <a:off x="6202080" y="4524120"/>
                <a:ext cx="1081800" cy="317520"/>
              </a:xfrm>
              <a:prstGeom prst="flowChartTerminator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6418440" y="4555440"/>
                <a:ext cx="721080" cy="25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Times New Roman"/>
                  </a:rPr>
                  <a:t>结束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6" name=""/>
            <p:cNvSpPr/>
            <p:nvPr/>
          </p:nvSpPr>
          <p:spPr>
            <a:xfrm>
              <a:off x="6755040" y="2871720"/>
              <a:ext cx="0" cy="30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2590920" y="594360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-6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循环结构程序流程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"/>
          <p:cNvGrpSpPr/>
          <p:nvPr/>
        </p:nvGrpSpPr>
        <p:grpSpPr>
          <a:xfrm>
            <a:off x="609120" y="1295280"/>
            <a:ext cx="7772400" cy="3276360"/>
            <a:chOff x="609120" y="1295280"/>
            <a:chExt cx="7772400" cy="3276360"/>
          </a:xfrm>
        </p:grpSpPr>
        <p:sp>
          <p:nvSpPr>
            <p:cNvPr id="309" name=""/>
            <p:cNvSpPr/>
            <p:nvPr/>
          </p:nvSpPr>
          <p:spPr>
            <a:xfrm>
              <a:off x="2778120" y="4115160"/>
              <a:ext cx="3015360" cy="45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0" name=""/>
            <p:cNvGrpSpPr/>
            <p:nvPr/>
          </p:nvGrpSpPr>
          <p:grpSpPr>
            <a:xfrm>
              <a:off x="609120" y="1295280"/>
              <a:ext cx="7772400" cy="2787840"/>
              <a:chOff x="609120" y="1295280"/>
              <a:chExt cx="7772400" cy="2787840"/>
            </a:xfrm>
          </p:grpSpPr>
          <p:grpSp>
            <p:nvGrpSpPr>
              <p:cNvPr id="311" name=""/>
              <p:cNvGrpSpPr/>
              <p:nvPr/>
            </p:nvGrpSpPr>
            <p:grpSpPr>
              <a:xfrm>
                <a:off x="609120" y="1452240"/>
                <a:ext cx="1086480" cy="2094120"/>
                <a:chOff x="609120" y="1452240"/>
                <a:chExt cx="1086480" cy="2094120"/>
              </a:xfrm>
            </p:grpSpPr>
            <p:sp>
              <p:nvSpPr>
                <p:cNvPr id="312" name=""/>
                <p:cNvSpPr/>
                <p:nvPr/>
              </p:nvSpPr>
              <p:spPr>
                <a:xfrm flipH="1">
                  <a:off x="609120" y="1452240"/>
                  <a:ext cx="10753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620640" y="1452240"/>
                  <a:ext cx="0" cy="2088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 flipH="1">
                  <a:off x="609120" y="3546360"/>
                  <a:ext cx="10753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947880" y="1786680"/>
                  <a:ext cx="7477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947880" y="1786680"/>
                  <a:ext cx="0" cy="1455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947880" y="3230640"/>
                  <a:ext cx="7477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1205280" y="2243160"/>
                  <a:ext cx="467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1208520" y="2243160"/>
                  <a:ext cx="0" cy="577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1205280" y="2809080"/>
                  <a:ext cx="467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1" name=""/>
              <p:cNvGrpSpPr/>
              <p:nvPr/>
            </p:nvGrpSpPr>
            <p:grpSpPr>
              <a:xfrm>
                <a:off x="1921680" y="1295280"/>
                <a:ext cx="1389960" cy="1409400"/>
                <a:chOff x="1921680" y="1295280"/>
                <a:chExt cx="1389960" cy="1409400"/>
              </a:xfrm>
            </p:grpSpPr>
            <p:sp>
              <p:nvSpPr>
                <p:cNvPr id="322" name=""/>
                <p:cNvSpPr/>
                <p:nvPr/>
              </p:nvSpPr>
              <p:spPr>
                <a:xfrm>
                  <a:off x="1945080" y="1295280"/>
                  <a:ext cx="864720" cy="49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外循环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1921680" y="1733760"/>
                  <a:ext cx="1379160" cy="498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中循环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1932840" y="2206800"/>
                  <a:ext cx="1378800" cy="49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内循环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5" name=""/>
              <p:cNvGrpSpPr/>
              <p:nvPr/>
            </p:nvGrpSpPr>
            <p:grpSpPr>
              <a:xfrm>
                <a:off x="3495600" y="1455840"/>
                <a:ext cx="3763440" cy="2089080"/>
                <a:chOff x="3495600" y="1455840"/>
                <a:chExt cx="3763440" cy="2089080"/>
              </a:xfrm>
            </p:grpSpPr>
            <p:grpSp>
              <p:nvGrpSpPr>
                <p:cNvPr id="326" name=""/>
                <p:cNvGrpSpPr/>
                <p:nvPr/>
              </p:nvGrpSpPr>
              <p:grpSpPr>
                <a:xfrm>
                  <a:off x="3495600" y="1455840"/>
                  <a:ext cx="1075320" cy="2089080"/>
                  <a:chOff x="3495600" y="1455840"/>
                  <a:chExt cx="1075320" cy="2089080"/>
                </a:xfrm>
              </p:grpSpPr>
              <p:sp>
                <p:nvSpPr>
                  <p:cNvPr id="327" name=""/>
                  <p:cNvSpPr/>
                  <p:nvPr/>
                </p:nvSpPr>
                <p:spPr>
                  <a:xfrm flipH="1">
                    <a:off x="3495600" y="1455840"/>
                    <a:ext cx="10753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3499200" y="1455840"/>
                    <a:ext cx="0" cy="2089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9" name=""/>
                  <p:cNvSpPr/>
                  <p:nvPr/>
                </p:nvSpPr>
                <p:spPr>
                  <a:xfrm flipH="1">
                    <a:off x="3495600" y="3534840"/>
                    <a:ext cx="10753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0" name=""/>
                  <p:cNvSpPr/>
                  <p:nvPr/>
                </p:nvSpPr>
                <p:spPr>
                  <a:xfrm>
                    <a:off x="3822840" y="1838160"/>
                    <a:ext cx="725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3822840" y="1838160"/>
                    <a:ext cx="0" cy="5418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2" name=""/>
                  <p:cNvSpPr/>
                  <p:nvPr/>
                </p:nvSpPr>
                <p:spPr>
                  <a:xfrm>
                    <a:off x="3846600" y="3220560"/>
                    <a:ext cx="7012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3" name=""/>
                  <p:cNvSpPr/>
                  <p:nvPr/>
                </p:nvSpPr>
                <p:spPr>
                  <a:xfrm>
                    <a:off x="3827520" y="2365200"/>
                    <a:ext cx="7246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3846600" y="2692080"/>
                    <a:ext cx="0" cy="5418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5" name=""/>
                  <p:cNvSpPr/>
                  <p:nvPr/>
                </p:nvSpPr>
                <p:spPr>
                  <a:xfrm>
                    <a:off x="3846600" y="2692080"/>
                    <a:ext cx="7012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36" name=""/>
                <p:cNvSpPr/>
                <p:nvPr/>
              </p:nvSpPr>
              <p:spPr>
                <a:xfrm flipH="1">
                  <a:off x="6183720" y="1510920"/>
                  <a:ext cx="10753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6180840" y="1510920"/>
                  <a:ext cx="0" cy="1618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 flipH="1">
                  <a:off x="6183720" y="3120840"/>
                  <a:ext cx="10753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6511320" y="1894680"/>
                  <a:ext cx="7477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6511320" y="1907280"/>
                  <a:ext cx="0" cy="1554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511320" y="3461760"/>
                  <a:ext cx="7477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2" name=""/>
              <p:cNvGrpSpPr/>
              <p:nvPr/>
            </p:nvGrpSpPr>
            <p:grpSpPr>
              <a:xfrm>
                <a:off x="7470360" y="1354320"/>
                <a:ext cx="911160" cy="1157760"/>
                <a:chOff x="7470360" y="1354320"/>
                <a:chExt cx="911160" cy="1157760"/>
              </a:xfrm>
            </p:grpSpPr>
            <p:sp>
              <p:nvSpPr>
                <p:cNvPr id="343" name=""/>
                <p:cNvSpPr/>
                <p:nvPr/>
              </p:nvSpPr>
              <p:spPr>
                <a:xfrm>
                  <a:off x="7470360" y="1354320"/>
                  <a:ext cx="888120" cy="49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外循环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7493400" y="2014200"/>
                  <a:ext cx="888120" cy="49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内循环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5" name=""/>
              <p:cNvGrpSpPr/>
              <p:nvPr/>
            </p:nvGrpSpPr>
            <p:grpSpPr>
              <a:xfrm>
                <a:off x="4785120" y="1326600"/>
                <a:ext cx="990360" cy="1838520"/>
                <a:chOff x="4785120" y="1326600"/>
                <a:chExt cx="990360" cy="1838520"/>
              </a:xfrm>
            </p:grpSpPr>
            <p:sp>
              <p:nvSpPr>
                <p:cNvPr id="346" name=""/>
                <p:cNvSpPr/>
                <p:nvPr/>
              </p:nvSpPr>
              <p:spPr>
                <a:xfrm>
                  <a:off x="4785120" y="1326600"/>
                  <a:ext cx="817920" cy="49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外循环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4785120" y="1801800"/>
                  <a:ext cx="958320" cy="49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内循环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4817160" y="2667240"/>
                  <a:ext cx="958320" cy="49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内循环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9" name=""/>
              <p:cNvGrpSpPr/>
              <p:nvPr/>
            </p:nvGrpSpPr>
            <p:grpSpPr>
              <a:xfrm>
                <a:off x="1047960" y="3540240"/>
                <a:ext cx="7310160" cy="542880"/>
                <a:chOff x="1047960" y="3540240"/>
                <a:chExt cx="7310160" cy="542880"/>
              </a:xfrm>
            </p:grpSpPr>
            <p:sp>
              <p:nvSpPr>
                <p:cNvPr id="350" name=""/>
                <p:cNvSpPr/>
                <p:nvPr/>
              </p:nvSpPr>
              <p:spPr>
                <a:xfrm>
                  <a:off x="1047960" y="3626640"/>
                  <a:ext cx="1582560" cy="45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（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a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）嵌套正确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3832920" y="3619440"/>
                  <a:ext cx="1602720" cy="45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（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）嵌套正确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6324480" y="3540240"/>
                  <a:ext cx="2033640" cy="45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（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c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）交叉不正确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53" name=""/>
          <p:cNvSpPr/>
          <p:nvPr/>
        </p:nvSpPr>
        <p:spPr>
          <a:xfrm>
            <a:off x="2286000" y="48769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-7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多重循环示意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040" y="114300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循环程序设计举例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【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.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】有一数据块从片内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RA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0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单元开始存入，设数据块长度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单元。根据下式：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X+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X&gt;0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Y=  100   X=0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求出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值，并将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值放回原处。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  ∣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X∣ X&lt;0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解：设置一个计数器控制循环次数，每处理完一个数据，计数器减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程序流程如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-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所示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371600" y="2819520"/>
            <a:ext cx="152280" cy="1066680"/>
          </a:xfrm>
          <a:custGeom>
            <a:avLst/>
            <a:gdLst>
              <a:gd name="textAreaLeft" fmla="*/ 97200 w 152280"/>
              <a:gd name="textAreaRight" fmla="*/ 152640 w 15228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7720" y="114300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参考源程序如下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OR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000H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MOV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R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#1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MOV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R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#30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STAR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MOV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@R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；取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J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CC.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NE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；若为负数，转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NEG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JZ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ZER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；若为零，转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ZER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D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#02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；若为正数，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X+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JM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SAV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；转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SAV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保存数据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ZER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：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MOV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# 64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；数据为零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Y=100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cc33"/>
                </a:solidFill>
                <a:latin typeface="Times New Roman"/>
              </a:rPr>
              <a:t>4.1.1  </a:t>
            </a:r>
            <a:r>
              <a:rPr b="1" lang="zh-CN" sz="3200" spc="-1" strike="noStrike">
                <a:solidFill>
                  <a:srgbClr val="33cc33"/>
                </a:solidFill>
                <a:latin typeface="Times New Roman"/>
              </a:rPr>
              <a:t>程序设计语言</a:t>
            </a:r>
            <a:r>
              <a:rPr b="1" lang="zh-CN" sz="3200" spc="-1" strike="noStrike">
                <a:solidFill>
                  <a:srgbClr val="33cc33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14040" y="114300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按照语言的结构及其功能可以分为三种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机器语言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机器语言是用二进制代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表示指令和数据的最原始的程序设计语言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汇编语言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汇编语言中，指令用助记符表示，地址、操作数可用标号、符号地址及字符等形式来描述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高级语言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高级语言是接近于人的自然语言，面向过程而独立于机器的通用语言。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31080" y="6420960"/>
            <a:ext cx="1450800" cy="398880"/>
          </a:xfrm>
          <a:prstGeom prst="rect">
            <a:avLst/>
          </a:prstGeom>
          <a:noFill/>
          <a:ln w="223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cc00cc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914040" y="114300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JM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SAV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；转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SAV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保存数据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NE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：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DE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CPL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；求∣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X∣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SAV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MOV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@R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；保存数据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N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R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；地址指针指向下一个地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DJNZ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R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START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；数据未处理完，继续处理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SJM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＄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；暂停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1" name=""/>
          <p:cNvGrpSpPr/>
          <p:nvPr/>
        </p:nvGrpSpPr>
        <p:grpSpPr>
          <a:xfrm>
            <a:off x="1143000" y="228600"/>
            <a:ext cx="5790960" cy="6477120"/>
            <a:chOff x="1143000" y="228600"/>
            <a:chExt cx="5790960" cy="6477120"/>
          </a:xfrm>
        </p:grpSpPr>
        <p:sp>
          <p:nvSpPr>
            <p:cNvPr id="362" name=""/>
            <p:cNvSpPr/>
            <p:nvPr/>
          </p:nvSpPr>
          <p:spPr>
            <a:xfrm>
              <a:off x="3972600" y="3130920"/>
              <a:ext cx="0" cy="43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707920" y="2750400"/>
              <a:ext cx="2500560" cy="374040"/>
            </a:xfrm>
            <a:prstGeom prst="flowChartDecisi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=0</a:t>
              </a: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？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667520" y="6500880"/>
              <a:ext cx="4186800" cy="2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5" name=""/>
            <p:cNvGrpSpPr/>
            <p:nvPr/>
          </p:nvGrpSpPr>
          <p:grpSpPr>
            <a:xfrm>
              <a:off x="1472040" y="1989720"/>
              <a:ext cx="4916520" cy="3909960"/>
              <a:chOff x="1472040" y="1989720"/>
              <a:chExt cx="4916520" cy="3909960"/>
            </a:xfrm>
          </p:grpSpPr>
          <p:sp>
            <p:nvSpPr>
              <p:cNvPr id="366" name=""/>
              <p:cNvSpPr/>
              <p:nvPr/>
            </p:nvSpPr>
            <p:spPr>
              <a:xfrm>
                <a:off x="2216160" y="2710440"/>
                <a:ext cx="791280" cy="26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5597280" y="1989720"/>
                <a:ext cx="791280" cy="26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3871080" y="2539440"/>
                <a:ext cx="791280" cy="26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3852000" y="3196080"/>
                <a:ext cx="791280" cy="26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3971160" y="5632200"/>
                <a:ext cx="791280" cy="26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601"/>
                  </a:spcBef>
                  <a:spcAft>
                    <a:spcPts val="400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1472040" y="5124960"/>
                <a:ext cx="791280" cy="26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2" name=""/>
            <p:cNvSpPr/>
            <p:nvPr/>
          </p:nvSpPr>
          <p:spPr>
            <a:xfrm>
              <a:off x="5700960" y="2198880"/>
              <a:ext cx="542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924000" y="2426760"/>
              <a:ext cx="0" cy="31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243480" y="3389400"/>
              <a:ext cx="0" cy="51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1143000" y="1241280"/>
              <a:ext cx="4320" cy="417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064240" y="1977480"/>
              <a:ext cx="3666600" cy="445680"/>
            </a:xfrm>
            <a:prstGeom prst="flowChartDecisi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为负数？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911760" y="1655280"/>
              <a:ext cx="0" cy="31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243480" y="2200320"/>
              <a:ext cx="0" cy="97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350800" y="1429920"/>
              <a:ext cx="3398400" cy="21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取数，</a:t>
              </a: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A←</a:t>
              </a: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（（</a:t>
              </a: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R1</a:t>
              </a: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））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065400" y="228600"/>
              <a:ext cx="1616760" cy="277200"/>
            </a:xfrm>
            <a:prstGeom prst="flowChartTerminator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601"/>
                </a:spcBef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开始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197160" y="5881680"/>
              <a:ext cx="1617120" cy="307800"/>
            </a:xfrm>
            <a:prstGeom prst="flowChartTerminator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结束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260680" y="3171240"/>
              <a:ext cx="1673280" cy="217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←∣X∣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414080" y="3171240"/>
              <a:ext cx="1801800" cy="220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←64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051360" y="3580200"/>
              <a:ext cx="1809720" cy="190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←X+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flipH="1">
              <a:off x="2294280" y="2936880"/>
              <a:ext cx="460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294640" y="2936880"/>
              <a:ext cx="0" cy="22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294640" y="3389400"/>
              <a:ext cx="0" cy="51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294640" y="3907080"/>
              <a:ext cx="1677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4005360" y="3907080"/>
              <a:ext cx="2237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145600" y="4152600"/>
              <a:ext cx="3704400" cy="267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存数，（（</a:t>
              </a: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R1</a:t>
              </a: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））←</a:t>
              </a: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zh-CN" sz="1800" spc="-1" strike="noStrike">
                  <a:solidFill>
                    <a:srgbClr val="000000"/>
                  </a:solidFill>
                  <a:latin typeface="宋体"/>
                </a:rPr>
                <a:t>（</a:t>
              </a:r>
              <a:r>
                <a:rPr b="0" lang="zh-CN" sz="1800" spc="-1" strike="noStrike">
                  <a:solidFill>
                    <a:srgbClr val="000000"/>
                  </a:solidFill>
                  <a:latin typeface="宋体"/>
                </a:rPr>
                <a:t>3</a:t>
              </a: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0H</a:t>
              </a: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892680" y="1156680"/>
              <a:ext cx="0" cy="266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024440" y="4898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332080" y="738720"/>
              <a:ext cx="3384360" cy="416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设置地址指针</a:t>
              </a: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R1</a:t>
              </a: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、计数器</a:t>
              </a: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R0</a:t>
              </a: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初值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152080" y="4628160"/>
              <a:ext cx="3680280" cy="267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1←R1+1</a:t>
              </a: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；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0←R0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024440" y="4428360"/>
              <a:ext cx="0" cy="20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633040" y="5190480"/>
              <a:ext cx="2838960" cy="462960"/>
            </a:xfrm>
            <a:prstGeom prst="flowChartDecisi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0=0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043160" y="5646960"/>
              <a:ext cx="0" cy="24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>
              <a:off x="1148760" y="5420880"/>
              <a:ext cx="1485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143000" y="1241640"/>
              <a:ext cx="273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873960" y="509040"/>
              <a:ext cx="0" cy="24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005360" y="377100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2" name=""/>
          <p:cNvSpPr/>
          <p:nvPr/>
        </p:nvSpPr>
        <p:spPr>
          <a:xfrm>
            <a:off x="7302600" y="685800"/>
            <a:ext cx="54612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-8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.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程序流程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7159680" y="6345000"/>
            <a:ext cx="1450800" cy="398880"/>
          </a:xfrm>
          <a:prstGeom prst="rect">
            <a:avLst/>
          </a:prstGeom>
          <a:noFill/>
          <a:ln w="223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cc00cc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cc33"/>
                </a:solidFill>
                <a:latin typeface="Times New Roman"/>
              </a:rPr>
              <a:t>4.2.5  </a:t>
            </a:r>
            <a:r>
              <a:rPr b="1" lang="zh-CN" sz="3200" spc="-1" strike="noStrike">
                <a:solidFill>
                  <a:srgbClr val="33cc33"/>
                </a:solidFill>
                <a:latin typeface="Times New Roman"/>
              </a:rPr>
              <a:t>子程序</a:t>
            </a:r>
            <a:r>
              <a:rPr b="1" lang="zh-CN" sz="3200" spc="-1" strike="noStrike">
                <a:solidFill>
                  <a:srgbClr val="33cc33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769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子程序概念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所谓调用子程序，暂时中断主程序的执行，而转到子程序的入口地址去执行子程序。如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-1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所示。调用子程序应注意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子程序占用的存储单元和寄存器。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参数的传递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子程序经过调用后得到的数据来完成程序之间的参数传递。 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嵌套调用与递归调用。如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-1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所示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"/>
          <p:cNvGrpSpPr/>
          <p:nvPr/>
        </p:nvGrpSpPr>
        <p:grpSpPr>
          <a:xfrm>
            <a:off x="1469880" y="1676520"/>
            <a:ext cx="5844240" cy="2303280"/>
            <a:chOff x="1469880" y="1676520"/>
            <a:chExt cx="5844240" cy="2303280"/>
          </a:xfrm>
        </p:grpSpPr>
        <p:sp>
          <p:nvSpPr>
            <p:cNvPr id="407" name=""/>
            <p:cNvSpPr/>
            <p:nvPr/>
          </p:nvSpPr>
          <p:spPr>
            <a:xfrm>
              <a:off x="5933880" y="3243960"/>
              <a:ext cx="1012680" cy="31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8" name=""/>
            <p:cNvGrpSpPr/>
            <p:nvPr/>
          </p:nvGrpSpPr>
          <p:grpSpPr>
            <a:xfrm>
              <a:off x="1469880" y="1676520"/>
              <a:ext cx="5844240" cy="2303280"/>
              <a:chOff x="1469880" y="1676520"/>
              <a:chExt cx="5844240" cy="2303280"/>
            </a:xfrm>
          </p:grpSpPr>
          <p:sp>
            <p:nvSpPr>
              <p:cNvPr id="409" name=""/>
              <p:cNvSpPr/>
              <p:nvPr/>
            </p:nvSpPr>
            <p:spPr>
              <a:xfrm>
                <a:off x="1469880" y="2253960"/>
                <a:ext cx="2622960" cy="317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LCALL  SUB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469880" y="1676520"/>
                <a:ext cx="2622960" cy="2303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2804040" y="2636280"/>
                <a:ext cx="0" cy="799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 flipV="1">
                <a:off x="4230720" y="2123640"/>
                <a:ext cx="2116800" cy="32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5381280" y="1868400"/>
                <a:ext cx="1932840" cy="1663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6269040" y="2156400"/>
                <a:ext cx="0" cy="895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 flipH="1" flipV="1">
                <a:off x="2757960" y="2603520"/>
                <a:ext cx="2991240" cy="799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5381280" y="3243960"/>
                <a:ext cx="1932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17" name=""/>
          <p:cNvSpPr/>
          <p:nvPr/>
        </p:nvSpPr>
        <p:spPr>
          <a:xfrm>
            <a:off x="2438280" y="495288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-10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子程序的调用与返回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8" name=""/>
          <p:cNvGrpSpPr/>
          <p:nvPr/>
        </p:nvGrpSpPr>
        <p:grpSpPr>
          <a:xfrm>
            <a:off x="2057400" y="1219320"/>
            <a:ext cx="4857480" cy="3181320"/>
            <a:chOff x="2057400" y="1219320"/>
            <a:chExt cx="4857480" cy="3181320"/>
          </a:xfrm>
        </p:grpSpPr>
        <p:sp>
          <p:nvSpPr>
            <p:cNvPr id="419" name=""/>
            <p:cNvSpPr/>
            <p:nvPr/>
          </p:nvSpPr>
          <p:spPr>
            <a:xfrm>
              <a:off x="4355640" y="1343520"/>
              <a:ext cx="966240" cy="2694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057400" y="2017080"/>
              <a:ext cx="1410120" cy="439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CALL  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057400" y="1219320"/>
              <a:ext cx="1410120" cy="3181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340680" y="3649320"/>
              <a:ext cx="574200" cy="44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840760" y="1351800"/>
              <a:ext cx="0" cy="618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814480" y="2544840"/>
              <a:ext cx="0" cy="110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>
              <a:off x="3493800" y="1395360"/>
              <a:ext cx="1332000" cy="88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53040" y="1307520"/>
              <a:ext cx="835920" cy="2694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445080" y="1793520"/>
              <a:ext cx="0" cy="167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flipH="1" flipV="1">
              <a:off x="2788560" y="2500560"/>
              <a:ext cx="1645200" cy="136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053040" y="3649320"/>
              <a:ext cx="835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512240" y="3619800"/>
              <a:ext cx="574200" cy="44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825800" y="1440000"/>
              <a:ext cx="0" cy="87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355640" y="3649320"/>
              <a:ext cx="966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355640" y="2362680"/>
              <a:ext cx="966240" cy="441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CALL 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807080" y="2853720"/>
              <a:ext cx="0" cy="75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V="1">
              <a:off x="5321880" y="1748880"/>
              <a:ext cx="1122840" cy="79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 flipV="1">
              <a:off x="4799520" y="2809800"/>
              <a:ext cx="1332000" cy="101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2209680" y="5105520"/>
            <a:ext cx="51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-11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子程序的嵌套调用与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914040" y="114300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子程序设计举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【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.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】  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.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节中的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.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改为子程序结构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解：数据块中的十个数都需要进行符号判断并作相应处理，可把一部分工作交给子程序完成，主程序只负责读取数据、调用判断处理子程序、保存数据、循环控制工作。源程序如下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OR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0000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MOV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R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#1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MOV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R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#30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914040" y="114300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STAR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MOV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@R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；取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CALL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DISPOS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；调用判断、处理子程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SAV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MOV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@R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；保存数据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N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R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；修改地址指针，指向下一个地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DJNZ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R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STAR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；数据未处理完，继续处理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SJM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＄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；暂停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OR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0200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DISPOS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J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CC.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NE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；若为负数，转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NEG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914040" y="114300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JZ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ZER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；若为零，转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ZER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D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#02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；若为正数，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X+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JM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BACK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；转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SAV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保存数据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ZER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MOV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#64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；数据为零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Y=100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JM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BACK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；转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SAV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保存数据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NE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DE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CPL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；求∣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X∣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BACK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RE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931080" y="6420960"/>
            <a:ext cx="1450800" cy="398880"/>
          </a:xfrm>
          <a:prstGeom prst="rect">
            <a:avLst/>
          </a:prstGeom>
          <a:noFill/>
          <a:ln w="223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cc00cc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cc33"/>
                </a:solidFill>
                <a:latin typeface="Times New Roman"/>
              </a:rPr>
              <a:t>4.2.6  </a:t>
            </a:r>
            <a:r>
              <a:rPr b="1" lang="zh-CN" sz="3200" spc="-1" strike="noStrike">
                <a:solidFill>
                  <a:srgbClr val="33cc33"/>
                </a:solidFill>
                <a:latin typeface="Times New Roman"/>
              </a:rPr>
              <a:t>位操作程序</a:t>
            </a:r>
            <a:r>
              <a:rPr b="1" lang="zh-CN" sz="3200" spc="-1" strike="noStrike">
                <a:solidFill>
                  <a:srgbClr val="33cc33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914040" y="114300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【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.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】  编写一程序，实现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-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中的逻辑运算电路。其中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zh-CN" sz="2800" spc="-1" strike="noStrike" baseline="-30000">
                <a:solidFill>
                  <a:srgbClr val="000000"/>
                </a:solidFill>
                <a:latin typeface="Times New Roman"/>
              </a:rPr>
              <a:t>3.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zh-CN" sz="2800" spc="-1" strike="noStrike" baseline="-30000">
                <a:solidFill>
                  <a:srgbClr val="000000"/>
                </a:solidFill>
                <a:latin typeface="Times New Roman"/>
              </a:rPr>
              <a:t>1.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zh-CN" sz="2800" spc="-1" strike="noStrike" baseline="-30000">
                <a:solidFill>
                  <a:srgbClr val="000000"/>
                </a:solidFill>
                <a:latin typeface="Times New Roman"/>
              </a:rPr>
              <a:t>1.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分别是单片机端口线上的信息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RS</a:t>
            </a:r>
            <a:r>
              <a:rPr b="1" lang="zh-CN" sz="2800" spc="-1" strike="noStrike" baseline="-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RS</a:t>
            </a:r>
            <a:r>
              <a:rPr b="1" lang="zh-CN" sz="28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PSW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寄存器中的两个标志位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0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1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两个位地址，运算结果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zh-CN" sz="2800" spc="-1" strike="noStrike" baseline="-30000">
                <a:solidFill>
                  <a:srgbClr val="000000"/>
                </a:solidFill>
                <a:latin typeface="Times New Roman"/>
              </a:rPr>
              <a:t>1.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输出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程序如下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OR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0000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MOV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P3.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914040" y="114300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NL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P1.1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CPL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MOV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0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；暂存数据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MOV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0H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ORL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/31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NL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RS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NL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0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NL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RS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MOV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P1.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；输出结果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SJM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cc33"/>
                </a:solidFill>
                <a:latin typeface="Times New Roman"/>
              </a:rPr>
              <a:t>4.1.2  </a:t>
            </a:r>
            <a:r>
              <a:rPr b="1" lang="zh-CN" sz="3200" spc="-1" strike="noStrike">
                <a:solidFill>
                  <a:srgbClr val="33cc33"/>
                </a:solidFill>
                <a:latin typeface="Times New Roman"/>
              </a:rPr>
              <a:t>汇编语言的语句结构</a:t>
            </a:r>
            <a:r>
              <a:rPr b="1" lang="zh-CN" sz="3200" spc="-1" strike="noStrike">
                <a:solidFill>
                  <a:srgbClr val="33cc33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14040" y="114300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汇编语言的指令类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MCS-5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单片机汇编语言，包含两类不同性质的指令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基本指令：即指令系统中的指令。它们都是机器能够执行的指令，每一条指令都有对应的机器码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伪指令：汇编时用于控制汇编的指令。它们都是机器不执行的指令，无机器码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9" name=""/>
          <p:cNvGrpSpPr/>
          <p:nvPr/>
        </p:nvGrpSpPr>
        <p:grpSpPr>
          <a:xfrm>
            <a:off x="838080" y="1600200"/>
            <a:ext cx="7924320" cy="2971800"/>
            <a:chOff x="838080" y="1600200"/>
            <a:chExt cx="7924320" cy="2971800"/>
          </a:xfrm>
        </p:grpSpPr>
        <p:sp>
          <p:nvSpPr>
            <p:cNvPr id="450" name=""/>
            <p:cNvSpPr/>
            <p:nvPr/>
          </p:nvSpPr>
          <p:spPr>
            <a:xfrm>
              <a:off x="838080" y="1600200"/>
              <a:ext cx="457560" cy="29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3.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1.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spcBef>
                  <a:spcPts val="17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0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1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spcBef>
                  <a:spcPts val="15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S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S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1" name=""/>
            <p:cNvGrpSpPr/>
            <p:nvPr/>
          </p:nvGrpSpPr>
          <p:grpSpPr>
            <a:xfrm>
              <a:off x="1266480" y="1670040"/>
              <a:ext cx="7495920" cy="2677320"/>
              <a:chOff x="1266480" y="1670040"/>
              <a:chExt cx="7495920" cy="2677320"/>
            </a:xfrm>
          </p:grpSpPr>
          <p:sp>
            <p:nvSpPr>
              <p:cNvPr id="452" name=""/>
              <p:cNvSpPr/>
              <p:nvPr/>
            </p:nvSpPr>
            <p:spPr>
              <a:xfrm>
                <a:off x="2951640" y="1670040"/>
                <a:ext cx="807480" cy="704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宋体"/>
                  </a:rPr>
                  <a:t>&amp;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1319040" y="1787400"/>
                <a:ext cx="1632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1319040" y="2257560"/>
                <a:ext cx="1632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1348200" y="2897640"/>
                <a:ext cx="1632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351080" y="3318840"/>
                <a:ext cx="145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2793600" y="3246840"/>
                <a:ext cx="175320" cy="1303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2986920" y="2766960"/>
                <a:ext cx="807480" cy="704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宋体"/>
                  </a:rPr>
                  <a:t>≥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4926600" y="2946240"/>
                <a:ext cx="807480" cy="705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宋体"/>
                  </a:rPr>
                  <a:t>&amp;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6594480" y="2215080"/>
                <a:ext cx="807480" cy="9010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宋体"/>
                  </a:rPr>
                  <a:t>&amp;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3776760" y="1980000"/>
                <a:ext cx="175320" cy="1303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3963960" y="2061720"/>
                <a:ext cx="2018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812040" y="3080520"/>
                <a:ext cx="1105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1289520" y="3946680"/>
                <a:ext cx="3089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V="1">
                <a:off x="4373640" y="3550320"/>
                <a:ext cx="0" cy="378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4373640" y="3537360"/>
                <a:ext cx="544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1266480" y="4347360"/>
                <a:ext cx="5020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6000480" y="2061720"/>
                <a:ext cx="0" cy="352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6003720" y="2414160"/>
                <a:ext cx="589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5740200" y="3250080"/>
                <a:ext cx="248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5988600" y="2754000"/>
                <a:ext cx="0" cy="496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5988600" y="2738520"/>
                <a:ext cx="605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 flipV="1">
                <a:off x="6284160" y="3001680"/>
                <a:ext cx="0" cy="134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6287400" y="3003120"/>
                <a:ext cx="298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7428600" y="2571120"/>
                <a:ext cx="579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8078040" y="2414160"/>
                <a:ext cx="684360" cy="33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Times New Roman"/>
                  </a:rPr>
                  <a:t>1.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77" name=""/>
          <p:cNvSpPr/>
          <p:nvPr/>
        </p:nvSpPr>
        <p:spPr>
          <a:xfrm>
            <a:off x="1981080" y="495288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-12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硬件逻辑硬件电路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931080" y="6420960"/>
            <a:ext cx="1450800" cy="398880"/>
          </a:xfrm>
          <a:prstGeom prst="rect">
            <a:avLst/>
          </a:prstGeom>
          <a:noFill/>
          <a:ln w="223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cc00cc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09120" y="1676520"/>
            <a:ext cx="8001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cc33"/>
                </a:solidFill>
                <a:latin typeface="Times New Roman"/>
              </a:rPr>
              <a:t>THANK YOU VERY MUCH </a:t>
            </a:r>
            <a:r>
              <a:rPr b="1" lang="zh-CN" sz="4000" spc="-1" strike="noStrike">
                <a:solidFill>
                  <a:srgbClr val="33cc33"/>
                </a:solidFill>
                <a:latin typeface="Times New Roman"/>
              </a:rPr>
              <a:t>！</a:t>
            </a:r>
            <a:endParaRPr b="1" lang="en-US" sz="40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306080" y="2330280"/>
            <a:ext cx="6807240" cy="345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本章到此结束，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3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谢谢您的光临！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>
            <a:hlinkClick r:id="" action="ppaction://hlinkshowjump?jump=endshow"/>
          </p:cNvPr>
          <p:cNvSpPr/>
          <p:nvPr/>
        </p:nvSpPr>
        <p:spPr>
          <a:xfrm>
            <a:off x="5257800" y="6420960"/>
            <a:ext cx="1450800" cy="398880"/>
          </a:xfrm>
          <a:prstGeom prst="rect">
            <a:avLst/>
          </a:prstGeom>
          <a:noFill/>
          <a:ln w="223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cc00cc"/>
                </a:solidFill>
                <a:latin typeface="Times New Roman"/>
                <a:ea typeface="隶书"/>
              </a:rPr>
              <a:t>结束放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6934320" y="6420960"/>
            <a:ext cx="1730160" cy="398880"/>
          </a:xfrm>
          <a:prstGeom prst="rect">
            <a:avLst/>
          </a:prstGeom>
          <a:noFill/>
          <a:ln w="223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cc00cc"/>
                </a:solidFill>
                <a:latin typeface="Times New Roman"/>
                <a:ea typeface="隶书"/>
              </a:rPr>
              <a:t>返回本章首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14040" y="114300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汇编语言的语句格式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汇编语言源程序是由汇编语句（即指令）组成的。汇编语言一般由四部分组成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其典型的汇编语句格式如下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标号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操作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操作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注释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STAR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MOV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0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0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931080" y="6420960"/>
            <a:ext cx="1450800" cy="398880"/>
          </a:xfrm>
          <a:prstGeom prst="rect">
            <a:avLst/>
          </a:prstGeom>
          <a:noFill/>
          <a:ln w="223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cc00cc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cc33"/>
                </a:solidFill>
                <a:latin typeface="Times New Roman"/>
              </a:rPr>
              <a:t>4.1.3  </a:t>
            </a:r>
            <a:r>
              <a:rPr b="1" lang="zh-CN" sz="3200" spc="-1" strike="noStrike">
                <a:solidFill>
                  <a:srgbClr val="33cc33"/>
                </a:solidFill>
                <a:latin typeface="Times New Roman"/>
              </a:rPr>
              <a:t>伪指令</a:t>
            </a:r>
            <a:r>
              <a:rPr b="1" lang="zh-CN" sz="3200" spc="-1" strike="noStrike">
                <a:solidFill>
                  <a:srgbClr val="33cc33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14040" y="114300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OR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汇编起始地址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用来说明以下程序段在存储器中存放的起始地址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例如程序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OR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000H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STAR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MOV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#20H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MOV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#30H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┇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EQU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赋值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给变量标号赋予一个确定的数值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4040" y="114300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D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定义数据字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把数据以字节数的形式存放在存储器单元中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DW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定义数据字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按字的形式把数据存放在存储单元中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D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定义存储区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指定的地址单元开始，保留一定数量存储单元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I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位定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确定字符名为确定的位地址值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EN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汇编结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1080" y="6420960"/>
            <a:ext cx="1450800" cy="398880"/>
          </a:xfrm>
          <a:prstGeom prst="rect">
            <a:avLst/>
          </a:prstGeom>
          <a:noFill/>
          <a:ln w="223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cc00cc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cc33"/>
                </a:solidFill>
                <a:latin typeface="Times New Roman"/>
              </a:rPr>
              <a:t>4.2  </a:t>
            </a:r>
            <a:r>
              <a:rPr b="1" lang="zh-CN" sz="3200" spc="-1" strike="noStrike">
                <a:solidFill>
                  <a:srgbClr val="33cc33"/>
                </a:solidFill>
                <a:latin typeface="Times New Roman"/>
              </a:rPr>
              <a:t>汇编语言程序设计</a:t>
            </a:r>
            <a:endParaRPr b="1" lang="en-US" sz="32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36520" y="1143000"/>
            <a:ext cx="6804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c00cc"/>
                </a:solidFill>
                <a:uFillTx/>
                <a:latin typeface="Times New Roman"/>
                <a:hlinkClick r:id="rId1" action="ppaction://hlinksldjump"/>
              </a:rPr>
              <a:t>4.2.1  汇编语方程序设计步骤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.2.2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顺序程序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.2.3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分支程序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.2.4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循环程序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.2.5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子程序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.2.6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位操作程序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934320" y="6420960"/>
            <a:ext cx="1730160" cy="398880"/>
          </a:xfrm>
          <a:prstGeom prst="rect">
            <a:avLst/>
          </a:prstGeom>
          <a:noFill/>
          <a:ln w="223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cc00cc"/>
                </a:solidFill>
                <a:latin typeface="Times New Roman"/>
                <a:ea typeface="隶书"/>
              </a:rPr>
              <a:t>返回本章首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cc33"/>
                </a:solidFill>
                <a:latin typeface="Times New Roman"/>
              </a:rPr>
              <a:t>4.2.1  </a:t>
            </a:r>
            <a:r>
              <a:rPr b="1" lang="zh-CN" sz="3200" spc="-1" strike="noStrike">
                <a:solidFill>
                  <a:srgbClr val="33cc33"/>
                </a:solidFill>
                <a:latin typeface="Times New Roman"/>
              </a:rPr>
              <a:t>汇编语方程序设计步骤</a:t>
            </a:r>
            <a:endParaRPr b="1" lang="en-US" sz="32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114300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分析问题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确定算法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设计程序流程图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分配内存单元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编写汇编语言源程序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调试程序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931080" y="6420960"/>
            <a:ext cx="1450800" cy="398880"/>
          </a:xfrm>
          <a:prstGeom prst="rect">
            <a:avLst/>
          </a:prstGeom>
          <a:noFill/>
          <a:ln w="223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cc00cc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31T07:24:58Z</dcterms:created>
  <dc:creator>liwu</dc:creator>
  <dc:description/>
  <dc:language>en-US</dc:language>
  <cp:lastModifiedBy>新人电脑</cp:lastModifiedBy>
  <dcterms:modified xsi:type="dcterms:W3CDTF">2002-06-11T13:49:11Z</dcterms:modified>
  <cp:revision>29</cp:revision>
  <dc:subject/>
  <dc:title>第4章  汇编语言程序设计 </dc:title>
</cp:coreProperties>
</file>